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AA2-681E-434A-9453-63E996A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F30-76B3-432E-837B-076C54A8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F1A-908B-48E4-A3C7-317524FF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D81-8535-47B6-853A-F0245AA1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DE8-F94D-4B35-904E-1E11A56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88F-4F76-49C7-879B-8A1DD6DB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71C-CD94-4FAC-AFF0-93C8BA1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956-F8A4-4F0A-B5A2-B516F8D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DFA-FCEE-4072-B307-447F1BF3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053-B4A9-4BF4-AC6A-D2B084A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E5D-F7F8-4E4E-86D7-2DE35CA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6FA-F455-4BFF-9D23-9DFB1C4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EB8-372E-40D8-B318-2424E328715E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3042b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3042b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3042b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Angles and Arc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ctober 2007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42b"/>
                </a:solidFill>
                <a:latin typeface="Trebuchet MS"/>
              </a:rPr>
              <a:t>Use the properties of central angles, inscribed angles, triangles, and diameters to solve for x in each of the following:</a:t>
            </a:r>
            <a:r>
              <a:rPr b="0" lang="en-US" sz="4000" spc="-1" strike="noStrike">
                <a:solidFill>
                  <a:srgbClr val="03042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6320" y="2374920"/>
            <a:ext cx="7729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4720" y="906480"/>
            <a:ext cx="813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Draw a circ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Mark 4 points on the circumference of the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 a quadrilateral                       in the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Measure the angl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at do you notice?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743200"/>
            <a:ext cx="28195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819520"/>
            <a:ext cx="15264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3962520"/>
            <a:ext cx="15228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334120"/>
            <a:ext cx="15264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yclic Quadrilateral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quadrilateral inscribed in a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pposite angles in a cyclic quadrilateral are supplementar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3200400" cy="2819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19320" y="4190760"/>
            <a:ext cx="2514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14040" y="42670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410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43200" y="4190760"/>
            <a:ext cx="9907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50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3320" y="4105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2360" y="414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616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800600" y="3809880"/>
                <a:ext cx="3352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97440" y="4757760"/>
                <a:ext cx="33098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arm-up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nd the measure of      BAD 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9200" y="2057400"/>
                <a:ext cx="463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4190760" cy="322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46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Arc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chord divides a circle into two arc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smaller arc is 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minor arc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, and the larger arc is 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major arc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438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entral Ang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central angle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as its vertex at the centre of a circle, and two radii form the arm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entral angle AOC is described as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subtended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y the chord AC and by the arc A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724280"/>
            <a:ext cx="18334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Inscribed Ang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n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inscribed angle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as its vertex on the circle, and two chords form the arm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d angle ABC is also described as subtended by the chord AC and by the arc A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10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measure of an arc is the measure of the central angle subtended by the ar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3886200"/>
            <a:ext cx="34542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d angles subtended by the same arc, or by equal arcs, are congruent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3727440"/>
            <a:ext cx="6934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measure of the central angle is equal to twice the measure of the inscribed angle subtended by the same ar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778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angle inscribed in a semicircle is a right angle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959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7:04:01Z</dcterms:created>
  <dc:creator>nbdoe</dc:creator>
  <dc:description/>
  <cp:keywords>Education</cp:keywords>
  <dc:language>en-US</dc:language>
  <cp:lastModifiedBy>nbdoe</cp:lastModifiedBy>
  <dcterms:modified xsi:type="dcterms:W3CDTF">2007-10-18T23:42:09Z</dcterms:modified>
  <cp:revision>16</cp:revision>
  <dc:subject>Template Ready</dc:subject>
  <dc:title>Angles and Arcs</dc:title>
</cp:coreProperties>
</file>